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27.gif" ContentType="image/gif"/>
  <Override PartName="/ppt/media/image51.wmf" ContentType="image/x-wmf"/>
  <Override PartName="/ppt/media/image46.wmf" ContentType="image/x-wmf"/>
  <Override PartName="/ppt/media/image9.gif" ContentType="image/gif"/>
  <Override PartName="/ppt/media/image45.png" ContentType="image/png"/>
  <Override PartName="/ppt/media/image44.wmf" ContentType="image/x-wmf"/>
  <Override PartName="/ppt/media/image43.gif" ContentType="image/gif"/>
  <Override PartName="/ppt/media/image42.wmf" ContentType="image/x-wmf"/>
  <Override PartName="/ppt/media/image5.gif" ContentType="image/gif"/>
  <Override PartName="/ppt/media/image82.jpeg" ContentType="image/jpeg"/>
  <Override PartName="/ppt/media/image41.wmf" ContentType="image/x-wmf"/>
  <Override PartName="/ppt/media/image7.png" ContentType="image/png"/>
  <Override PartName="/ppt/media/image4.gif" ContentType="image/gif"/>
  <Override PartName="/ppt/media/image40.gif" ContentType="image/gif"/>
  <Override PartName="/ppt/media/image38.wmf" ContentType="image/x-wmf"/>
  <Override PartName="/ppt/media/image37.wmf" ContentType="image/x-wmf"/>
  <Override PartName="/ppt/media/image36.wmf" ContentType="image/x-wmf"/>
  <Override PartName="/ppt/media/image31.gif" ContentType="image/gif"/>
  <Override PartName="/ppt/media/image10.wmf" ContentType="image/x-wmf"/>
  <Override PartName="/ppt/media/image34.wmf" ContentType="image/x-wmf"/>
  <Override PartName="/ppt/media/image8.gif" ContentType="image/gif"/>
  <Override PartName="/ppt/media/image17.wmf" ContentType="image/x-wmf"/>
  <Override PartName="/ppt/media/image57.wmf" ContentType="image/x-wmf"/>
  <Override PartName="/ppt/media/image24.gif" ContentType="image/gif"/>
  <Override PartName="/ppt/media/image20.wmf" ContentType="image/x-wmf"/>
  <Override PartName="/ppt/media/image18.wmf" ContentType="image/x-wmf"/>
  <Override PartName="/ppt/media/image60.wmf" ContentType="image/x-wmf"/>
  <Override PartName="/ppt/media/image22.png" ContentType="image/png"/>
  <Override PartName="/ppt/media/image62.wmf" ContentType="image/x-wmf"/>
  <Override PartName="/ppt/media/image29.wmf" ContentType="image/x-wmf"/>
  <Override PartName="/ppt/media/image71.wmf" ContentType="image/x-wmf"/>
  <Override PartName="/ppt/media/image58.wmf" ContentType="image/x-wmf"/>
  <Override PartName="/ppt/media/image6.jpeg" ContentType="image/jpeg"/>
  <Override PartName="/ppt/media/image21.wmf" ContentType="image/x-wmf"/>
  <Override PartName="/ppt/media/image59.wmf" ContentType="image/x-wmf"/>
  <Override PartName="/ppt/media/image61.wmf" ContentType="image/x-wmf"/>
  <Override PartName="/ppt/media/image19.wmf" ContentType="image/x-wmf"/>
  <Override PartName="/ppt/media/image81.wmf" ContentType="image/x-wmf"/>
  <Override PartName="/ppt/media/image79.wmf" ContentType="image/x-wmf"/>
  <Override PartName="/ppt/media/image67.wmf" ContentType="image/x-wmf"/>
  <Override PartName="/ppt/media/image30.wmf" ContentType="image/x-wmf"/>
  <Override PartName="/ppt/media/image78.wmf" ContentType="image/x-wmf"/>
  <Override PartName="/ppt/media/image76.wmf" ContentType="image/x-wmf"/>
  <Override PartName="/ppt/media/image75.wmf" ContentType="image/x-wmf"/>
  <Override PartName="/ppt/media/image63.wmf" ContentType="image/x-wmf"/>
  <Override PartName="/ppt/media/image74.wmf" ContentType="image/x-wmf"/>
  <Override PartName="/ppt/media/image77.wmf" ContentType="image/x-wmf"/>
  <Override PartName="/ppt/media/image16.jpeg" ContentType="image/jpeg"/>
  <Override PartName="/ppt/media/image35.wmf" ContentType="image/x-wmf"/>
  <Override PartName="/ppt/media/image64.wmf" ContentType="image/x-wmf"/>
  <Override PartName="/ppt/media/image39.gif" ContentType="image/gif"/>
  <Override PartName="/ppt/media/image73.wmf" ContentType="image/x-wmf"/>
  <Override PartName="/ppt/media/image72.wmf" ContentType="image/x-wmf"/>
  <Override PartName="/ppt/media/image70.wmf" ContentType="image/x-wmf"/>
  <Override PartName="/ppt/media/image28.wmf" ContentType="image/x-wmf"/>
  <Override PartName="/ppt/media/image69.wmf" ContentType="image/x-wmf"/>
  <Override PartName="/ppt/media/image32.wmf" ContentType="image/x-wmf"/>
  <Override PartName="/ppt/media/chimes.wav" ContentType="audio/x-wav"/>
  <Override PartName="/ppt/media/image15.gif" ContentType="image/gif"/>
  <Override PartName="/ppt/media/image11.wmf" ContentType="image/x-wmf"/>
  <Override PartName="/ppt/media/image48.wmf" ContentType="image/x-wmf"/>
  <Override PartName="/ppt/media/image68.png" ContentType="image/png"/>
  <Override PartName="/ppt/media/image65.gif" ContentType="image/gi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type.wav" ContentType="audio/x-wav"/>
  <Override PartName="/ppt/media/image66.wmf" ContentType="image/x-wmf"/>
  <Override PartName="/ppt/media/image12.wmf" ContentType="image/x-wmf"/>
  <Override PartName="/ppt/media/image49.wmf" ContentType="image/x-wmf"/>
  <Override PartName="/ppt/media/image13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gif" ContentType="image/gif"/>
  <Override PartName="/ppt/media/image5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250-0F31-4ADC-85CA-0375F8FA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2242-C36D-4B30-892A-FB076566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8B69-8803-474C-B1A4-B570C2D5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C6DF-8A46-4DE4-81E8-881E2F37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74D1-FD55-4C63-AE18-5D262026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944-0A06-45B7-93B2-DAEFEEC1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60DA-C42B-4EF1-9F01-691BD58B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89D6-E609-4639-94D4-5154C29E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943F-9D34-4452-9F05-38142061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1CEF-8FE4-4FA8-9886-D2B42B37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8264-2830-4D85-90E7-6066A712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5DBA-75BD-47B6-AE64-B9C1E60A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6FB0-598E-400F-9CC4-40F780DE7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wmf"/><Relationship Id="rId3" Type="http://schemas.openxmlformats.org/officeDocument/2006/relationships/image" Target="../media/image39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gif"/><Relationship Id="rId3" Type="http://schemas.openxmlformats.org/officeDocument/2006/relationships/image" Target="../media/image44.wmf"/><Relationship Id="rId4" Type="http://schemas.openxmlformats.org/officeDocument/2006/relationships/image" Target="../media/image2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wmf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image" Target="../media/image55.wmf"/><Relationship Id="rId8" Type="http://schemas.openxmlformats.org/officeDocument/2006/relationships/image" Target="../media/image56.wmf"/><Relationship Id="rId9" Type="http://schemas.openxmlformats.org/officeDocument/2006/relationships/image" Target="../media/image57.wmf"/><Relationship Id="rId10" Type="http://schemas.openxmlformats.org/officeDocument/2006/relationships/image" Target="../media/image58.wmf"/><Relationship Id="rId11" Type="http://schemas.openxmlformats.org/officeDocument/2006/relationships/image" Target="../media/image59.wmf"/><Relationship Id="rId12" Type="http://schemas.openxmlformats.org/officeDocument/2006/relationships/image" Target="../media/image60.wmf"/><Relationship Id="rId13" Type="http://schemas.openxmlformats.org/officeDocument/2006/relationships/image" Target="../media/image61.wmf"/><Relationship Id="rId14" Type="http://schemas.openxmlformats.org/officeDocument/2006/relationships/image" Target="../media/image62.wmf"/><Relationship Id="rId15" Type="http://schemas.openxmlformats.org/officeDocument/2006/relationships/image" Target="../media/image63.wmf"/><Relationship Id="rId16" Type="http://schemas.openxmlformats.org/officeDocument/2006/relationships/image" Target="../media/image64.wmf"/><Relationship Id="rId17" Type="http://schemas.openxmlformats.org/officeDocument/2006/relationships/image" Target="../media/image65.gif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wmf"/><Relationship Id="rId3" Type="http://schemas.openxmlformats.org/officeDocument/2006/relationships/image" Target="../media/image70.wmf"/><Relationship Id="rId4" Type="http://schemas.openxmlformats.org/officeDocument/2006/relationships/image" Target="../media/image71.wmf"/><Relationship Id="rId5" Type="http://schemas.openxmlformats.org/officeDocument/2006/relationships/image" Target="../media/image72.wmf"/><Relationship Id="rId6" Type="http://schemas.openxmlformats.org/officeDocument/2006/relationships/image" Target="../media/image73.wm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image" Target="../media/image76.wm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image" Target="../media/image79.wmf"/><Relationship Id="rId5" Type="http://schemas.openxmlformats.org/officeDocument/2006/relationships/image" Target="../media/image80.wmf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0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2.1 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整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36560" y="8190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56200" y="7905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v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68560" y="790560"/>
            <a:ext cx="155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4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68880" y="29512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720080" y="139536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9840" y="1395360"/>
            <a:ext cx="144720" cy="432000"/>
          </a:xfrm>
          <a:prstGeom prst="downArrow">
            <a:avLst>
              <a:gd name="adj1" fmla="val 50000"/>
              <a:gd name="adj2" fmla="val 7462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02440" y="138096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43640" y="3598920"/>
            <a:ext cx="142920" cy="503280"/>
          </a:xfrm>
          <a:prstGeom prst="downArrow">
            <a:avLst>
              <a:gd name="adj1" fmla="val 50000"/>
              <a:gd name="adj2" fmla="val 88035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5280" y="1871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38240" y="1871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字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84920" y="1800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×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45240" y="4194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×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01920" y="308448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π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78800" y="3048120"/>
            <a:ext cx="86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πb</a:t>
            </a:r>
            <a:r>
              <a:rPr b="1" lang="en-US" sz="4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60840" y="17985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84560" y="1438200"/>
            <a:ext cx="144720" cy="432000"/>
          </a:xfrm>
          <a:prstGeom prst="downArrow">
            <a:avLst>
              <a:gd name="adj1" fmla="val 50000"/>
              <a:gd name="adj2" fmla="val 7462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644480" y="3711600"/>
            <a:ext cx="144720" cy="431640"/>
          </a:xfrm>
          <a:prstGeom prst="downArrow">
            <a:avLst>
              <a:gd name="adj1" fmla="val 50000"/>
              <a:gd name="adj2" fmla="val 74565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93920" y="371304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59360" y="4216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62280" y="42354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字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152960" y="3687840"/>
            <a:ext cx="156960" cy="431640"/>
          </a:xfrm>
          <a:prstGeom prst="downArrow">
            <a:avLst>
              <a:gd name="adj1" fmla="val 50000"/>
              <a:gd name="adj2" fmla="val 68750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41920" y="3684600"/>
            <a:ext cx="144360" cy="431640"/>
          </a:xfrm>
          <a:prstGeom prst="downArrow">
            <a:avLst>
              <a:gd name="adj1" fmla="val 50000"/>
              <a:gd name="adj2" fmla="val 74751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0200" y="4216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38800" y="4259160"/>
            <a:ext cx="13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字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4440" y="5129280"/>
            <a:ext cx="67629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注意：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是圆周率的代号，不是字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55840" y="18111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2706840"/>
            <a:ext cx="69850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数与字母或字母与字母的乘积像这样的式子叫做单项式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952720" y="1028880"/>
            <a:ext cx="3838680" cy="782280"/>
            <a:chOff x="2952720" y="1028880"/>
            <a:chExt cx="3838680" cy="7822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5791320" y="1028880"/>
              <a:ext cx="1000080" cy="78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952720" y="1141200"/>
              <a:ext cx="266220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335400" y="4962600"/>
            <a:ext cx="1904760" cy="647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0000" y="1708200"/>
            <a:ext cx="71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项式中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数字因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称为这个单项式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系数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单项式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所有字母的指数的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叫做这个单项式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次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76720" y="3632040"/>
            <a:ext cx="1923840" cy="2016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05080" y="3559320"/>
            <a:ext cx="719280" cy="21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557440" y="4856040"/>
            <a:ext cx="5745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7800" y="5576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4720" y="3992400"/>
            <a:ext cx="431640" cy="648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51240" y="4208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4064040"/>
            <a:ext cx="432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8720" y="3890880"/>
            <a:ext cx="1655640" cy="86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29440" y="39924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次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797440" y="42800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157560" y="441360"/>
            <a:ext cx="3838680" cy="782640"/>
            <a:chOff x="3157560" y="441360"/>
            <a:chExt cx="3838680" cy="78264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5996160" y="44136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157560" y="554040"/>
              <a:ext cx="2662200" cy="66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27120" y="776160"/>
            <a:ext cx="61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写出下列单项式的系数和次数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25760" y="1963800"/>
            <a:ext cx="923760" cy="4464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3476520" y="3084480"/>
            <a:ext cx="317520" cy="825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3525840" y="4273560"/>
            <a:ext cx="266760" cy="825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505320" y="1292400"/>
            <a:ext cx="30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数                      次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62680" y="181116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7320" y="1730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77960" y="24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7320" y="25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7320" y="3227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40160" y="442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403440" y="5460840"/>
            <a:ext cx="478080" cy="776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207120" y="5575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3084480" y="911160"/>
            <a:ext cx="3795840" cy="1833480"/>
            <a:chOff x="3084480" y="911160"/>
            <a:chExt cx="3795840" cy="1833480"/>
          </a:xfrm>
        </p:grpSpPr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5046480" y="911160"/>
              <a:ext cx="183384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File"/>
            <p:cNvSpPr/>
            <p:nvPr/>
          </p:nvSpPr>
          <p:spPr>
            <a:xfrm>
              <a:off x="3084480" y="942840"/>
              <a:ext cx="2041560" cy="83340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cc3300"/>
                </a:gs>
                <a:gs pos="100000">
                  <a:srgbClr val="0000ff"/>
                </a:gs>
              </a:gsLst>
              <a:lin ang="5400000"/>
            </a:gradFill>
            <a:ln w="25560">
              <a:solidFill>
                <a:srgbClr val="0000ff"/>
              </a:solidFill>
              <a:miter/>
            </a:ln>
            <a:effectLst>
              <a:outerShdw dist="143570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注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328760" y="2328840"/>
            <a:ext cx="6807240" cy="316404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．数字与字母相乘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乘号省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．表达式中数字写在字母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．数字是带分数一律写成假分数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768240" y="1679400"/>
            <a:ext cx="7561440" cy="3749760"/>
            <a:chOff x="768240" y="1679400"/>
            <a:chExt cx="7561440" cy="3749760"/>
          </a:xfrm>
        </p:grpSpPr>
        <p:sp>
          <p:nvSpPr>
            <p:cNvPr id="175" name=""/>
            <p:cNvSpPr/>
            <p:nvPr/>
          </p:nvSpPr>
          <p:spPr>
            <a:xfrm>
              <a:off x="768240" y="1679400"/>
              <a:ext cx="756144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　  ①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        ②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③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×4                    ④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÷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⑤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⑥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系数为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次数为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⑦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²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系数是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次数是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1976400" y="3255840"/>
              <a:ext cx="885600" cy="91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1351080" y="716040"/>
            <a:ext cx="627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判断下列说法或书写是否正确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54000" y="5097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例：用单项式填空，并指出它们的系数和次数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44560" y="1481040"/>
            <a:ext cx="7653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一个长方形的长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宽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它的面积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一个圆柱的底面的半径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它的体积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汽车每秒行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米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钟后能行驶多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因金融危机，某商场降价处理产品．一台冰箱原价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，现按原价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折出售，这台冰箱现在的售价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一本书的价格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，一块手表的价格是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，则钢笔的价格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66240" y="18795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076560" y="2781360"/>
            <a:ext cx="723960" cy="380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744200" y="359712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17720" y="486576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.5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02000" y="572940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.5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5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258920" y="907920"/>
          <a:ext cx="6935760" cy="4408560"/>
        </p:xfrm>
        <a:graphic>
          <a:graphicData uri="http://schemas.openxmlformats.org/drawingml/2006/table">
            <a:tbl>
              <a:tblPr/>
              <a:tblGrid>
                <a:gridCol w="2311560"/>
                <a:gridCol w="2313000"/>
                <a:gridCol w="2311200"/>
              </a:tblGrid>
              <a:tr h="73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单项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系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1981080" y="17733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835280" y="2565360"/>
            <a:ext cx="723600" cy="380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693440" y="321300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93440" y="393372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3440" y="465300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26000" y="1670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544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10080" y="24922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05440" y="2492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09640" y="31827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05440" y="321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65640" y="40021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6160" y="47242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86360" y="3973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78520" y="465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5640" y="4076640"/>
            <a:ext cx="431640" cy="108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5013360"/>
            <a:ext cx="431640" cy="792000"/>
          </a:xfrm>
          <a:custGeom>
            <a:avLst/>
            <a:gdLst>
              <a:gd name="textAreaLeft" fmla="*/ 57600 w 431640"/>
              <a:gd name="textAreaRight" fmla="*/ 374040 w 431640"/>
              <a:gd name="textAreaTop" fmla="*/ 131400 h 792000"/>
              <a:gd name="textAreaBottom" fmla="*/ 6098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73" stAng="-5400000" swAng="-5400000"/>
                <a:lnTo>
                  <a:pt x="0" y="13043"/>
                </a:lnTo>
                <a:arcTo wR="21600" hR="7173" stAng="10800000" swAng="-2592266"/>
                <a:lnTo>
                  <a:pt x="14400" y="21190"/>
                </a:lnTo>
                <a:lnTo>
                  <a:pt x="21600" y="17280"/>
                </a:lnTo>
                <a:lnTo>
                  <a:pt x="14400" y="12550"/>
                </a:lnTo>
                <a:lnTo>
                  <a:pt x="14400" y="13935"/>
                </a:lnTo>
                <a:arcTo wR="21600" hR="7173" stAng="8207734" swAng="2084057"/>
                <a:lnTo>
                  <a:pt x="1891" y="10108"/>
                </a:lnTo>
                <a:arcTo wR="21600" hR="7173" stAng="-10291791" swAng="4891791"/>
                <a:close/>
              </a:path>
              <a:path fill="darkenLess" w="21600" h="21600">
                <a:moveTo>
                  <a:pt x="21600" y="0"/>
                </a:moveTo>
                <a:arcTo wR="21600" hR="7173" stAng="-5400000" swAng="-5400000"/>
                <a:lnTo>
                  <a:pt x="0" y="7173"/>
                </a:lnTo>
                <a:arcTo wR="21600" hR="7173" stAng="10800000" swAng="-508209"/>
                <a:lnTo>
                  <a:pt x="1891" y="10108"/>
                </a:lnTo>
                <a:arcTo wR="21600" hR="7173" stAng="-10291791" swAng="4891791"/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25640" y="5545080"/>
            <a:ext cx="54036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同一单项式可以表示不同的含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022720" y="1820880"/>
            <a:ext cx="9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72520" y="182088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17960" y="2643120"/>
            <a:ext cx="12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72520" y="264168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92880" y="33321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72520" y="40323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98600" y="1898640"/>
            <a:ext cx="8636040" cy="2800440"/>
            <a:chOff x="498600" y="1898640"/>
            <a:chExt cx="8636040" cy="2800440"/>
          </a:xfrm>
        </p:grpSpPr>
        <p:sp>
          <p:nvSpPr>
            <p:cNvPr id="211" name=""/>
            <p:cNvSpPr/>
            <p:nvPr/>
          </p:nvSpPr>
          <p:spPr>
            <a:xfrm>
              <a:off x="498600" y="1898640"/>
              <a:ext cx="8636040" cy="28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） 单项式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4m</a:t>
              </a:r>
              <a:r>
                <a:rPr b="1" lang="zh-CN" sz="2800" spc="-1" strike="noStrike" baseline="30000">
                  <a:solidFill>
                    <a:srgbClr val="003366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的系数是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_____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，次数是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_____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） 单项式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r>
                <a:rPr b="1" lang="zh-CN" sz="2800" spc="-1" strike="noStrike" baseline="30000">
                  <a:solidFill>
                    <a:srgbClr val="003366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的系数是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_____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，次数是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_____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） 单项式         的系数是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_____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，次数是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_____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） 单项式 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π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r² 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的系数是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_____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，次数是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_____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2"/>
            <a:stretch/>
          </p:blipFill>
          <p:spPr>
            <a:xfrm>
              <a:off x="2641680" y="3265560"/>
              <a:ext cx="801720" cy="76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"/>
          <p:cNvSpPr/>
          <p:nvPr/>
        </p:nvSpPr>
        <p:spPr>
          <a:xfrm>
            <a:off x="5175720" y="4019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162400" y="3076560"/>
            <a:ext cx="244800" cy="792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155600" y="4939560"/>
            <a:ext cx="6629400" cy="11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意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当单项式的系数为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或 –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时，这个“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应省略不写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01600" y="684360"/>
            <a:ext cx="2620800" cy="852480"/>
            <a:chOff x="1101600" y="684360"/>
            <a:chExt cx="2620800" cy="852480"/>
          </a:xfrm>
        </p:grpSpPr>
        <p:sp>
          <p:nvSpPr>
            <p:cNvPr id="217" name=""/>
            <p:cNvSpPr/>
            <p:nvPr/>
          </p:nvSpPr>
          <p:spPr>
            <a:xfrm>
              <a:off x="1569960" y="74304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4"/>
            <a:stretch/>
          </p:blipFill>
          <p:spPr>
            <a:xfrm>
              <a:off x="1101600" y="68436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4421160" y="5284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57360" y="1676520"/>
            <a:ext cx="45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关于单项式的系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8640" y="2417760"/>
            <a:ext cx="76471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当单项式的系数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常省略不写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圆周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常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当单项式的系数是带分数时，通常写成假分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单项式的系数应包括它前面的性质符号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371760" y="660240"/>
            <a:ext cx="2770200" cy="947880"/>
            <a:chOff x="3371760" y="660240"/>
            <a:chExt cx="2770200" cy="947880"/>
          </a:xfrm>
        </p:grpSpPr>
        <p:sp>
          <p:nvSpPr>
            <p:cNvPr id="223" name=""/>
            <p:cNvSpPr txBox="1"/>
            <p:nvPr/>
          </p:nvSpPr>
          <p:spPr>
            <a:xfrm>
              <a:off x="3371760" y="88416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5235480" y="660240"/>
              <a:ext cx="906480" cy="947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11560" y="2830680"/>
            <a:ext cx="2448000" cy="11905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2017800" y="4378320"/>
            <a:ext cx="1800000" cy="1871640"/>
            <a:chOff x="2017800" y="4378320"/>
            <a:chExt cx="1800000" cy="1871640"/>
          </a:xfrm>
        </p:grpSpPr>
        <p:sp>
          <p:nvSpPr>
            <p:cNvPr id="44" name=""/>
            <p:cNvSpPr/>
            <p:nvPr/>
          </p:nvSpPr>
          <p:spPr>
            <a:xfrm>
              <a:off x="2017800" y="4378320"/>
              <a:ext cx="1800000" cy="1871640"/>
            </a:xfrm>
            <a:prstGeom prst="flowChartConnector">
              <a:avLst/>
            </a:prstGeom>
            <a:solidFill>
              <a:srgbClr val="ffff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2017800" y="4451400"/>
              <a:ext cx="1800000" cy="863640"/>
              <a:chOff x="2017800" y="4451400"/>
              <a:chExt cx="1800000" cy="863640"/>
            </a:xfrm>
          </p:grpSpPr>
          <p:sp>
            <p:nvSpPr>
              <p:cNvPr id="46" name=""/>
              <p:cNvSpPr/>
              <p:nvPr/>
            </p:nvSpPr>
            <p:spPr>
              <a:xfrm flipV="1">
                <a:off x="2809440" y="4667040"/>
                <a:ext cx="718920" cy="64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017800" y="5315040"/>
                <a:ext cx="18000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955600" y="4451400"/>
                <a:ext cx="718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r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005440" y="5027760"/>
            <a:ext cx="2079720" cy="65088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1949400" y="2619360"/>
            <a:ext cx="1814400" cy="1809720"/>
            <a:chOff x="1949400" y="2619360"/>
            <a:chExt cx="1814400" cy="1809720"/>
          </a:xfrm>
        </p:grpSpPr>
        <p:sp>
          <p:nvSpPr>
            <p:cNvPr id="51" name="未知"/>
            <p:cNvSpPr/>
            <p:nvPr/>
          </p:nvSpPr>
          <p:spPr>
            <a:xfrm>
              <a:off x="1949400" y="2619360"/>
              <a:ext cx="1814400" cy="1247760"/>
            </a:xfrm>
            <a:custGeom>
              <a:avLst/>
              <a:gdLst/>
              <a:ahLst/>
              <a:rect l="l" t="t" r="r" b="b"/>
              <a:pathLst>
                <a:path w="1143" h="786">
                  <a:moveTo>
                    <a:pt x="0" y="786"/>
                  </a:moveTo>
                  <a:lnTo>
                    <a:pt x="1143" y="786"/>
                  </a:lnTo>
                  <a:lnTo>
                    <a:pt x="814" y="0"/>
                  </a:lnTo>
                  <a:lnTo>
                    <a:pt x="0" y="78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165120" y="2651040"/>
              <a:ext cx="58680" cy="1222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63800" y="307980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74600" y="3908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48200" y="34131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219040" y="2021040"/>
            <a:ext cx="50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想一想：三角形、圆、长方形、正方形的面积公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017520" y="127080"/>
            <a:ext cx="2849400" cy="1709640"/>
            <a:chOff x="3017520" y="127080"/>
            <a:chExt cx="2849400" cy="1709640"/>
          </a:xfrm>
        </p:grpSpPr>
        <p:sp>
          <p:nvSpPr>
            <p:cNvPr id="58" name="filecab3"/>
            <p:cNvSpPr/>
            <p:nvPr/>
          </p:nvSpPr>
          <p:spPr>
            <a:xfrm rot="10800000">
              <a:off x="3017520" y="99828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新课导入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3635280" y="12708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673280" y="232236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单项式的次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5480" y="3191040"/>
            <a:ext cx="74185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一个单项式中，所有字母的指数的和才叫做单项式的次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单独一个数的次数记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376440" y="928800"/>
            <a:ext cx="2770200" cy="947520"/>
            <a:chOff x="3376440" y="928800"/>
            <a:chExt cx="2770200" cy="947520"/>
          </a:xfrm>
        </p:grpSpPr>
        <p:sp>
          <p:nvSpPr>
            <p:cNvPr id="228" name=""/>
            <p:cNvSpPr txBox="1"/>
            <p:nvPr/>
          </p:nvSpPr>
          <p:spPr>
            <a:xfrm>
              <a:off x="3376440" y="1152360"/>
              <a:ext cx="1441440" cy="60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5240160" y="92880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out" orient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5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0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96960" y="1595520"/>
            <a:ext cx="7041960" cy="2725920"/>
            <a:chOff x="696960" y="1595520"/>
            <a:chExt cx="7041960" cy="2725920"/>
          </a:xfrm>
        </p:grpSpPr>
        <p:sp>
          <p:nvSpPr>
            <p:cNvPr id="232" name=""/>
            <p:cNvSpPr/>
            <p:nvPr/>
          </p:nvSpPr>
          <p:spPr>
            <a:xfrm>
              <a:off x="696960" y="1595520"/>
              <a:ext cx="7041960" cy="27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； 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；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－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；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；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－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； 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－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8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1819080" y="1784520"/>
              <a:ext cx="91404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/>
          <p:nvPr/>
        </p:nvSpPr>
        <p:spPr>
          <a:xfrm>
            <a:off x="952560" y="4753080"/>
            <a:ext cx="6480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、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、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、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 、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是单项式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46080" y="692280"/>
            <a:ext cx="695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判断下列式子中哪些是单项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281320" y="14349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单项式的注意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19120" y="217476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单独一个数或一个字母也叫单项式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52600" y="32767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单独一个非零数的次数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5640" y="448632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单项式的系数包含符号，当系数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或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这个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应省略不写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24160" y="2698920"/>
            <a:ext cx="7162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比如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l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等都是单项式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66920" y="3878280"/>
            <a:ext cx="5329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的次数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0; 0</a:t>
            </a:r>
            <a:r>
              <a:rPr b="1" lang="en-US" sz="2800" spc="-1" strike="noStrike" baseline="50000">
                <a:solidFill>
                  <a:srgbClr val="0000ff"/>
                </a:solidFill>
                <a:latin typeface="Times New Roman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是没意义的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52600" y="54957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如：－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n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313080" y="550800"/>
            <a:ext cx="2770200" cy="947880"/>
            <a:chOff x="3313080" y="550800"/>
            <a:chExt cx="2770200" cy="947880"/>
          </a:xfrm>
        </p:grpSpPr>
        <p:sp>
          <p:nvSpPr>
            <p:cNvPr id="244" name=""/>
            <p:cNvSpPr txBox="1"/>
            <p:nvPr/>
          </p:nvSpPr>
          <p:spPr>
            <a:xfrm>
              <a:off x="3313080" y="77472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5176800" y="550800"/>
              <a:ext cx="906480" cy="947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amond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517760" y="1573200"/>
            <a:ext cx="628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填空，并观察式子的特点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2060640"/>
            <a:ext cx="80852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一个长方形的长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宽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这个长方体的表面积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如图，环形的面积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470320" y="4076640"/>
            <a:ext cx="2317680" cy="2232000"/>
            <a:chOff x="2470320" y="4076640"/>
            <a:chExt cx="2317680" cy="2232000"/>
          </a:xfrm>
        </p:grpSpPr>
        <p:sp>
          <p:nvSpPr>
            <p:cNvPr id="249" name=""/>
            <p:cNvSpPr/>
            <p:nvPr/>
          </p:nvSpPr>
          <p:spPr>
            <a:xfrm>
              <a:off x="2484720" y="4076640"/>
              <a:ext cx="2303280" cy="2232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43280" y="4408560"/>
              <a:ext cx="1584360" cy="158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84720" y="5210280"/>
              <a:ext cx="11444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29160" y="4408560"/>
              <a:ext cx="0" cy="8017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0800000">
              <a:off x="3687840" y="4408200"/>
              <a:ext cx="152640" cy="80172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0880 h 801720"/>
                <a:gd name="textAreaBottom" fmla="*/ 78084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05560" y="448632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6200000">
              <a:off x="2966040" y="4763160"/>
              <a:ext cx="152640" cy="1144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9520 h 1144440"/>
                <a:gd name="textAreaBottom" fmla="*/ 1114920 h 114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90160" y="5283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97480" y="52102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90200" y="5068800"/>
              <a:ext cx="249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919840" y="3657600"/>
            <a:ext cx="1460520" cy="3808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773240" y="2852640"/>
            <a:ext cx="26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ab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ah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b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803680" y="339840"/>
            <a:ext cx="3519360" cy="1185840"/>
            <a:chOff x="2803680" y="339840"/>
            <a:chExt cx="3519360" cy="1185840"/>
          </a:xfrm>
        </p:grpSpPr>
        <p:pic>
          <p:nvPicPr>
            <p:cNvPr id="262" name="" descr=""/>
            <p:cNvPicPr/>
            <p:nvPr/>
          </p:nvPicPr>
          <p:blipFill>
            <a:blip r:embed="rId3"/>
            <a:stretch/>
          </p:blipFill>
          <p:spPr>
            <a:xfrm>
              <a:off x="5370840" y="339840"/>
              <a:ext cx="9522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Cloud"/>
            <p:cNvSpPr/>
            <p:nvPr/>
          </p:nvSpPr>
          <p:spPr>
            <a:xfrm>
              <a:off x="2803680" y="339840"/>
              <a:ext cx="256716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3324240" y="492120"/>
              <a:ext cx="15242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p:transition>
    <p:split dir="out" orient="vert"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990080" y="1308240"/>
            <a:ext cx="477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一个数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这个数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如图，门的面积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597280" y="2482560"/>
            <a:ext cx="2268720" cy="3034080"/>
            <a:chOff x="5597280" y="2482560"/>
            <a:chExt cx="2268720" cy="3034080"/>
          </a:xfrm>
        </p:grpSpPr>
        <p:grpSp>
          <p:nvGrpSpPr>
            <p:cNvPr id="267" name=""/>
            <p:cNvGrpSpPr/>
            <p:nvPr/>
          </p:nvGrpSpPr>
          <p:grpSpPr>
            <a:xfrm>
              <a:off x="5980320" y="2482920"/>
              <a:ext cx="1885680" cy="3033720"/>
              <a:chOff x="5980320" y="2482920"/>
              <a:chExt cx="1885680" cy="3033720"/>
            </a:xfrm>
          </p:grpSpPr>
          <p:sp>
            <p:nvSpPr>
              <p:cNvPr id="268" name=""/>
              <p:cNvSpPr/>
              <p:nvPr/>
            </p:nvSpPr>
            <p:spPr>
              <a:xfrm>
                <a:off x="5980320" y="2482920"/>
                <a:ext cx="1885680" cy="1843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980320" y="3456000"/>
                <a:ext cx="1885680" cy="2060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 flipV="1">
              <a:off x="6951600" y="2482560"/>
              <a:ext cx="0" cy="973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31520" y="273060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99440" y="42404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597280" y="3456000"/>
              <a:ext cx="3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597280" y="5516640"/>
              <a:ext cx="3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83400" y="4802400"/>
              <a:ext cx="0" cy="7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773680" y="3497400"/>
              <a:ext cx="0" cy="7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710000" y="1963800"/>
            <a:ext cx="10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716120" y="3216240"/>
            <a:ext cx="1650960" cy="619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6134040" y="2184480"/>
            <a:ext cx="1460520" cy="380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707840" y="2046240"/>
            <a:ext cx="26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a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b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84760" y="3257640"/>
            <a:ext cx="10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5956200" y="3157560"/>
            <a:ext cx="1638360" cy="6192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747800" y="2127240"/>
            <a:ext cx="658800" cy="380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91400" y="3157560"/>
            <a:ext cx="80316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79840" y="2127240"/>
            <a:ext cx="658800" cy="380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97000" y="3371760"/>
            <a:ext cx="439920" cy="381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84440" y="3357720"/>
            <a:ext cx="658800" cy="380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19840" y="2184480"/>
            <a:ext cx="884160" cy="380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03800" y="2184480"/>
            <a:ext cx="658800" cy="380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803920" y="3257640"/>
            <a:ext cx="658800" cy="380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587760" y="2127240"/>
            <a:ext cx="658800" cy="380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38640" y="4737240"/>
            <a:ext cx="33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项式的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4653720" y="1443960"/>
            <a:ext cx="465120" cy="5578560"/>
          </a:xfrm>
          <a:custGeom>
            <a:avLst/>
            <a:gdLst>
              <a:gd name="textAreaLeft" fmla="*/ 297360 w 465120"/>
              <a:gd name="textAreaRight" fmla="*/ 465480 w 465120"/>
              <a:gd name="textAreaTop" fmla="*/ 145440 h 5578560"/>
              <a:gd name="textAreaBottom" fmla="*/ 5433120 h 557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03280" y="911160"/>
            <a:ext cx="69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观察下面这些式子有什么特点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500"/>
                            </p:stCondLst>
                            <p:childTnLst>
                              <p:par>
                                <p:cTn id="10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39840" y="2876400"/>
            <a:ext cx="69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几个单项式的和叫做多项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530440" y="1204920"/>
            <a:ext cx="3838680" cy="782640"/>
            <a:chOff x="2530440" y="1204920"/>
            <a:chExt cx="3838680" cy="782640"/>
          </a:xfrm>
        </p:grpSpPr>
        <p:pic>
          <p:nvPicPr>
            <p:cNvPr id="297" name="" descr=""/>
            <p:cNvPicPr/>
            <p:nvPr/>
          </p:nvPicPr>
          <p:blipFill>
            <a:blip r:embed="rId2"/>
            <a:stretch/>
          </p:blipFill>
          <p:spPr>
            <a:xfrm>
              <a:off x="5369040" y="120492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530440" y="1317600"/>
              <a:ext cx="2662200" cy="66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052640" y="3689280"/>
            <a:ext cx="6813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多项式中，每个单项式叫做这个多项式的项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4511520" y="49500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00120" y="5240160"/>
            <a:ext cx="74120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注意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指出每一项时必须包含前面的符号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895320" y="2730600"/>
            <a:ext cx="1384200" cy="3808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73480" y="1832040"/>
            <a:ext cx="25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44920" y="3327480"/>
            <a:ext cx="10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679320" y="4197240"/>
            <a:ext cx="2016360" cy="7621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4048200" y="2611440"/>
            <a:ext cx="1676160" cy="4190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3895560" y="4057560"/>
            <a:ext cx="2054520" cy="7858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957480" y="1832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h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b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086720" y="329868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229520" y="1819440"/>
            <a:ext cx="16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三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215120" y="2560680"/>
            <a:ext cx="165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二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229520" y="3327480"/>
            <a:ext cx="165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二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191360" y="4325760"/>
            <a:ext cx="16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二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8524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　下列多项式是哪些单项式的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3880" y="1994040"/>
            <a:ext cx="755640" cy="323640"/>
          </a:xfrm>
          <a:prstGeom prst="rightArrow">
            <a:avLst>
              <a:gd name="adj1" fmla="val 50000"/>
              <a:gd name="adj2" fmla="val 58370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11880" y="2712960"/>
            <a:ext cx="755640" cy="324000"/>
          </a:xfrm>
          <a:prstGeom prst="rightArrow">
            <a:avLst>
              <a:gd name="adj1" fmla="val 50000"/>
              <a:gd name="adj2" fmla="val 58306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11880" y="3494160"/>
            <a:ext cx="755640" cy="323640"/>
          </a:xfrm>
          <a:prstGeom prst="rightArrow">
            <a:avLst>
              <a:gd name="adj1" fmla="val 50000"/>
              <a:gd name="adj2" fmla="val 58370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11880" y="4392720"/>
            <a:ext cx="755640" cy="323640"/>
          </a:xfrm>
          <a:prstGeom prst="rightArrow">
            <a:avLst>
              <a:gd name="adj1" fmla="val 50000"/>
              <a:gd name="adj2" fmla="val 58370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6" name="type.wav"/>
      </p:stSnd>
    </p:sndAc>
  </p:transition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3819600" y="3138480"/>
            <a:ext cx="3463920" cy="29606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4778280" y="3252960"/>
            <a:ext cx="870120" cy="509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92880" y="4094280"/>
            <a:ext cx="988920" cy="5490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059440" y="5240160"/>
            <a:ext cx="876240" cy="530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093760" y="1638360"/>
            <a:ext cx="53168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常数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多项式里不含字母的项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273480" y="762120"/>
            <a:ext cx="3838680" cy="782640"/>
            <a:chOff x="3273480" y="762120"/>
            <a:chExt cx="3838680" cy="782640"/>
          </a:xfrm>
        </p:grpSpPr>
        <p:pic>
          <p:nvPicPr>
            <p:cNvPr id="325" name="" descr=""/>
            <p:cNvPicPr/>
            <p:nvPr/>
          </p:nvPicPr>
          <p:blipFill>
            <a:blip r:embed="rId3"/>
            <a:stretch/>
          </p:blipFill>
          <p:spPr>
            <a:xfrm>
              <a:off x="6112080" y="76212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3273480" y="874800"/>
              <a:ext cx="2662200" cy="66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2492280" y="1670040"/>
            <a:ext cx="3670560" cy="43070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716120" y="797040"/>
            <a:ext cx="68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出下列多项式中的常数项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332160" y="1670040"/>
            <a:ext cx="843120" cy="5382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87800" y="2397240"/>
            <a:ext cx="1028880" cy="12618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24360" y="3944880"/>
            <a:ext cx="843120" cy="5382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95760" y="5079960"/>
            <a:ext cx="842760" cy="5382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  <p:sndAc>
      <p:stSnd>
        <p:snd r:embed="rId3" name="chimes.wav"/>
      </p:stSnd>
    </p:sndAc>
  </p:transition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513400" y="4473720"/>
            <a:ext cx="18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1755720"/>
            <a:ext cx="14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574640" y="611280"/>
            <a:ext cx="3265560" cy="2408040"/>
            <a:chOff x="1574640" y="611280"/>
            <a:chExt cx="3265560" cy="2408040"/>
          </a:xfrm>
        </p:grpSpPr>
        <p:sp>
          <p:nvSpPr>
            <p:cNvPr id="63" name=""/>
            <p:cNvSpPr/>
            <p:nvPr/>
          </p:nvSpPr>
          <p:spPr>
            <a:xfrm>
              <a:off x="1574640" y="1161720"/>
              <a:ext cx="2771640" cy="1857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60400" y="61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59320" y="18014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74640" y="611280"/>
              <a:ext cx="0" cy="55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6280" y="611280"/>
              <a:ext cx="0" cy="55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90520" y="914040"/>
              <a:ext cx="12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1574640" y="914040"/>
              <a:ext cx="108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46280" y="1161720"/>
              <a:ext cx="4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6280" y="3019320"/>
              <a:ext cx="4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01880" y="2274480"/>
              <a:ext cx="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601880" y="1161720"/>
              <a:ext cx="0" cy="63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703160" y="3423960"/>
            <a:ext cx="2810160" cy="2714760"/>
            <a:chOff x="1703160" y="3423960"/>
            <a:chExt cx="2810160" cy="2714760"/>
          </a:xfrm>
        </p:grpSpPr>
        <p:sp>
          <p:nvSpPr>
            <p:cNvPr id="75" name=""/>
            <p:cNvSpPr/>
            <p:nvPr/>
          </p:nvSpPr>
          <p:spPr>
            <a:xfrm>
              <a:off x="1703520" y="3424320"/>
              <a:ext cx="2351160" cy="23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52960" y="4311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70120" y="5618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54680" y="342432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54680" y="577548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54680" y="577548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03520" y="577548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62520" y="5948280"/>
              <a:ext cx="94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1703160" y="5962680"/>
              <a:ext cx="96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68960" y="4816440"/>
              <a:ext cx="0" cy="9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368960" y="3423960"/>
              <a:ext cx="0" cy="10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343640" y="2023920"/>
            <a:ext cx="1214640" cy="1990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46280" y="1163520"/>
            <a:ext cx="550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55600" y="789120"/>
            <a:ext cx="71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imes New Roman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说出下列多项式是几项式，及其各项分别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875040" y="1854360"/>
            <a:ext cx="3363840" cy="3949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746280" y="2255760"/>
            <a:ext cx="3219120" cy="3333960"/>
          </a:xfrm>
          <a:prstGeom prst="rect">
            <a:avLst/>
          </a:prstGeom>
          <a:ln w="0">
            <a:noFill/>
          </a:ln>
        </p:spPr>
      </p:pic>
    </p:spTree>
  </p:cSld>
  <p:transition>
    <p:strips dir="lu"/>
    <p:sndAc>
      <p:stSnd>
        <p:snd r:embed="rId4" name="type.wav"/>
      </p:stSnd>
    </p:sndAc>
  </p:transition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23760" y="2287440"/>
            <a:ext cx="724860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多项式的次数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多项式里次数最高项的次数，就是这个多项式的次数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246480" y="939960"/>
            <a:ext cx="3838680" cy="782640"/>
            <a:chOff x="3246480" y="939960"/>
            <a:chExt cx="3838680" cy="78264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6085080" y="93996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246480" y="1052640"/>
              <a:ext cx="2662200" cy="66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838080" y="5003640"/>
            <a:ext cx="6828120" cy="14162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2163600" y="3036960"/>
            <a:ext cx="1447920" cy="3808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874520" y="2173320"/>
            <a:ext cx="26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a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b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144880" y="3668760"/>
            <a:ext cx="10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1979640" y="4402080"/>
            <a:ext cx="2014560" cy="7621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121080" y="2173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32520" y="2898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86520" y="3594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83280" y="4543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962000" y="112068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指出下列多项式的次数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492800" y="2502000"/>
            <a:ext cx="37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次        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03800" y="2503440"/>
            <a:ext cx="130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三 　 </a:t>
            </a:r>
            <a:r>
              <a:rPr b="0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035320" y="250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389560" y="4106880"/>
            <a:ext cx="27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次        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81520" y="4092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028840" y="4119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574640" y="5113440"/>
            <a:ext cx="5732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注意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几次几项式的数字要大写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7693200" y="942840"/>
            <a:ext cx="1036440" cy="1143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71400" y="1628640"/>
            <a:ext cx="70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．请说出下列多项式是几次几项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730080" y="2435400"/>
            <a:ext cx="3681720" cy="22636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057360" y="333216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次        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16360" y="3271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035320" y="3274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187280" y="538200"/>
            <a:ext cx="2620800" cy="852480"/>
            <a:chOff x="1187280" y="538200"/>
            <a:chExt cx="2620800" cy="852480"/>
          </a:xfrm>
        </p:grpSpPr>
        <p:sp>
          <p:nvSpPr>
            <p:cNvPr id="365" name=""/>
            <p:cNvSpPr/>
            <p:nvPr/>
          </p:nvSpPr>
          <p:spPr>
            <a:xfrm>
              <a:off x="1655640" y="59688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" descr=""/>
            <p:cNvPicPr/>
            <p:nvPr/>
          </p:nvPicPr>
          <p:blipFill>
            <a:blip r:embed="rId4"/>
            <a:stretch/>
          </p:blipFill>
          <p:spPr>
            <a:xfrm>
              <a:off x="1187280" y="53820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  <p:sndAc>
      <p:stSnd>
        <p:snd r:embed="rId5" name="chimes.wav"/>
      </p:stSnd>
    </p:sndAc>
  </p:transition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7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192320" y="1492200"/>
            <a:ext cx="74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多项式填空，并说出它们的项和次数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09720" y="2071800"/>
            <a:ext cx="7870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已知一个二位数的个位数字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十位数字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用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式子表示这个二位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图中阴影部分的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积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155600" y="344160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n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670720" y="3357720"/>
            <a:ext cx="3000240" cy="2965320"/>
            <a:chOff x="5670720" y="3357720"/>
            <a:chExt cx="3000240" cy="2965320"/>
          </a:xfrm>
        </p:grpSpPr>
        <p:sp>
          <p:nvSpPr>
            <p:cNvPr id="371" name=""/>
            <p:cNvSpPr/>
            <p:nvPr/>
          </p:nvSpPr>
          <p:spPr>
            <a:xfrm>
              <a:off x="6107040" y="3814920"/>
              <a:ext cx="2017800" cy="2017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07040" y="3814920"/>
              <a:ext cx="798480" cy="79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57640" y="5802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67400" y="4570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70720" y="39434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32760" y="3357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07040" y="5832720"/>
              <a:ext cx="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24840" y="5832720"/>
              <a:ext cx="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75520" y="6107400"/>
              <a:ext cx="94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107040" y="6107400"/>
              <a:ext cx="79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124840" y="381816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124840" y="58327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439840" y="5026320"/>
              <a:ext cx="17640" cy="80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8440560" y="3813480"/>
              <a:ext cx="0" cy="89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711400" y="4613400"/>
              <a:ext cx="3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5724000" y="3818160"/>
              <a:ext cx="3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46760" y="438480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846760" y="3832200"/>
              <a:ext cx="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02360" y="3429000"/>
              <a:ext cx="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907320" y="3430800"/>
              <a:ext cx="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6105240" y="363888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59640" y="364356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2098800" y="4768920"/>
            <a:ext cx="19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111320" y="581040"/>
            <a:ext cx="2620800" cy="852480"/>
            <a:chOff x="1111320" y="581040"/>
            <a:chExt cx="2620800" cy="852480"/>
          </a:xfrm>
        </p:grpSpPr>
        <p:sp>
          <p:nvSpPr>
            <p:cNvPr id="395" name=""/>
            <p:cNvSpPr/>
            <p:nvPr/>
          </p:nvSpPr>
          <p:spPr>
            <a:xfrm>
              <a:off x="1579680" y="63972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3"/>
            <a:stretch/>
          </p:blipFill>
          <p:spPr>
            <a:xfrm>
              <a:off x="1111320" y="58104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u"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042920" y="709560"/>
            <a:ext cx="72327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每升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气温下降 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℃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山脚下的气温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 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那么登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米后，气温为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下图中阴影部分的面积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87480" y="207504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595520" y="3403440"/>
            <a:ext cx="1027080" cy="406440"/>
          </a:xfrm>
          <a:prstGeom prst="rect">
            <a:avLst/>
          </a:prstGeom>
          <a:ln w="0">
            <a:noFill/>
          </a:ln>
        </p:spPr>
      </p:pic>
      <p:grpSp>
        <p:nvGrpSpPr>
          <p:cNvPr id="400" name=""/>
          <p:cNvGrpSpPr/>
          <p:nvPr/>
        </p:nvGrpSpPr>
        <p:grpSpPr>
          <a:xfrm>
            <a:off x="4451400" y="3270240"/>
            <a:ext cx="3435480" cy="2828880"/>
            <a:chOff x="4451400" y="3270240"/>
            <a:chExt cx="3435480" cy="2828880"/>
          </a:xfrm>
        </p:grpSpPr>
        <p:pic>
          <p:nvPicPr>
            <p:cNvPr id="401" name="" descr=""/>
            <p:cNvPicPr/>
            <p:nvPr/>
          </p:nvPicPr>
          <p:blipFill>
            <a:blip r:embed="rId3"/>
            <a:stretch/>
          </p:blipFill>
          <p:spPr>
            <a:xfrm>
              <a:off x="5006880" y="3681000"/>
              <a:ext cx="2865600" cy="2406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02" name=""/>
            <p:cNvSpPr/>
            <p:nvPr/>
          </p:nvSpPr>
          <p:spPr>
            <a:xfrm flipH="1" flipV="1">
              <a:off x="6399000" y="3681000"/>
              <a:ext cx="14040" cy="11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6413400" y="4890240"/>
              <a:ext cx="14400" cy="11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337440" y="40719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586920" y="53258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578120" y="465516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75160" y="327024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06880" y="3333600"/>
              <a:ext cx="0" cy="3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86880" y="3333600"/>
              <a:ext cx="0" cy="3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464000" y="3681000"/>
              <a:ext cx="54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51400" y="6099120"/>
              <a:ext cx="54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718160" y="5099040"/>
              <a:ext cx="0" cy="9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4718160" y="3680640"/>
              <a:ext cx="0" cy="97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85120" y="3492360"/>
              <a:ext cx="128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006520" y="3492360"/>
              <a:ext cx="128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d"/>
  </p:transition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2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7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103400" y="1333440"/>
          <a:ext cx="7483320" cy="3940200"/>
        </p:xfrm>
        <a:graphic>
          <a:graphicData uri="http://schemas.openxmlformats.org/drawingml/2006/table">
            <a:tbl>
              <a:tblPr/>
              <a:tblGrid>
                <a:gridCol w="2422440"/>
                <a:gridCol w="3449880"/>
                <a:gridCol w="1611000"/>
              </a:tblGrid>
              <a:tr h="78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多项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"/>
          <p:cNvSpPr/>
          <p:nvPr/>
        </p:nvSpPr>
        <p:spPr>
          <a:xfrm>
            <a:off x="1301760" y="232416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n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301760" y="319572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258920" y="471960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238640" y="2324160"/>
            <a:ext cx="24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n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447440" y="3106800"/>
            <a:ext cx="10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315320" y="481824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241880" y="4010040"/>
            <a:ext cx="1617120" cy="520560"/>
            <a:chOff x="4241880" y="4010040"/>
            <a:chExt cx="1617120" cy="52056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4241880" y="4057560"/>
              <a:ext cx="27900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3"/>
            <a:stretch/>
          </p:blipFill>
          <p:spPr>
            <a:xfrm>
              <a:off x="5135400" y="4051440"/>
              <a:ext cx="72360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4686120" y="401004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7673760" y="2324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581600" y="3235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581600" y="4010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1600" y="484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1392120" y="4010040"/>
            <a:ext cx="1027080" cy="406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500"/>
                            </p:stCondLst>
                            <p:childTnLst>
                              <p:par>
                                <p:cTn id="15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123840" y="1611360"/>
          <a:ext cx="8839080" cy="4081320"/>
        </p:xfrm>
        <a:graphic>
          <a:graphicData uri="http://schemas.openxmlformats.org/drawingml/2006/table">
            <a:tbl>
              <a:tblPr/>
              <a:tblGrid>
                <a:gridCol w="2068560"/>
                <a:gridCol w="2046240"/>
                <a:gridCol w="2362320"/>
                <a:gridCol w="2361960"/>
              </a:tblGrid>
              <a:tr h="14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多项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08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最高次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几次几项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4937040" y="31845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249200" y="749160"/>
            <a:ext cx="35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．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填空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2330280" y="2157480"/>
            <a:ext cx="1781280" cy="4064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4375080" y="2025720"/>
            <a:ext cx="2129040" cy="8636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6769080" y="1854360"/>
            <a:ext cx="1941480" cy="1044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2349360" y="3344760"/>
            <a:ext cx="596880" cy="40644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3009960" y="3359160"/>
            <a:ext cx="1003320" cy="40644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7"/>
          <a:stretch/>
        </p:blipFill>
        <p:spPr>
          <a:xfrm>
            <a:off x="2622600" y="4300560"/>
            <a:ext cx="1003320" cy="40644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8"/>
          <a:stretch/>
        </p:blipFill>
        <p:spPr>
          <a:xfrm>
            <a:off x="4352760" y="3184560"/>
            <a:ext cx="687600" cy="7081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9"/>
          <a:stretch/>
        </p:blipFill>
        <p:spPr>
          <a:xfrm>
            <a:off x="5243400" y="3332160"/>
            <a:ext cx="698760" cy="4064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0"/>
          <a:stretch/>
        </p:blipFill>
        <p:spPr>
          <a:xfrm>
            <a:off x="6032520" y="3397320"/>
            <a:ext cx="393840" cy="3175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1"/>
          <a:stretch/>
        </p:blipFill>
        <p:spPr>
          <a:xfrm>
            <a:off x="6832440" y="3143160"/>
            <a:ext cx="460440" cy="3175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2"/>
          <a:stretch/>
        </p:blipFill>
        <p:spPr>
          <a:xfrm>
            <a:off x="7767720" y="3059280"/>
            <a:ext cx="736560" cy="4824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3"/>
          <a:stretch/>
        </p:blipFill>
        <p:spPr>
          <a:xfrm>
            <a:off x="6718320" y="3524400"/>
            <a:ext cx="825480" cy="4824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4"/>
          <a:stretch/>
        </p:blipFill>
        <p:spPr>
          <a:xfrm>
            <a:off x="8007480" y="3519360"/>
            <a:ext cx="333360" cy="5162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2555280" y="5092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五次二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444920" y="50799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六次二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101720" y="5119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五次四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5"/>
          <a:stretch/>
        </p:blipFill>
        <p:spPr>
          <a:xfrm>
            <a:off x="5030640" y="4108320"/>
            <a:ext cx="687600" cy="7081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16"/>
          <a:stretch/>
        </p:blipFill>
        <p:spPr>
          <a:xfrm>
            <a:off x="7310520" y="4321080"/>
            <a:ext cx="825480" cy="4827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17"/>
          <a:stretch/>
        </p:blipFill>
        <p:spPr>
          <a:xfrm>
            <a:off x="3373560" y="638280"/>
            <a:ext cx="952200" cy="628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18" name="chimes.wav"/>
      </p:stSnd>
    </p:sndAc>
  </p:transition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93720" y="841320"/>
            <a:ext cx="806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例：某人从甲地到乙地，去时顺风，回来时逆风．如果已知风速时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千米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时，那么他往返的速度分别怎样表示？如果甲乙两个人在无风中时速度分别是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千米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时，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千米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时，则他们在顺风中和逆风中的速度各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173320" y="3741840"/>
            <a:ext cx="58989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解：设在无风时行驶速度为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千米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时，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顺风行驶的速度为：（ 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千米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时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逆风行驶的速度为：（ 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千米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时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9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907920" y="1281240"/>
            <a:ext cx="788832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若甲在无风时的速度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千米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时，即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则：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若甲在无风时的速度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千米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时，即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5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则：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由上可知，甲在顺风时的速度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千米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时，逆风时的速度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8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千米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时；乙在顺风时的速度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千米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时，逆风时的速度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千米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时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10" dur="indefinite" restart="never" nodeType="tmRoot">
          <p:childTnLst>
            <p:seq>
              <p:cTn id="1711" dur="indefinite" nodeType="mainSeq">
                <p:childTnLst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469880" y="3051000"/>
            <a:ext cx="66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单项式和多项式统称为整式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719440" y="1244520"/>
            <a:ext cx="3838680" cy="782640"/>
            <a:chOff x="2719440" y="1244520"/>
            <a:chExt cx="3838680" cy="782640"/>
          </a:xfrm>
        </p:grpSpPr>
        <p:pic>
          <p:nvPicPr>
            <p:cNvPr id="459" name="" descr=""/>
            <p:cNvPicPr/>
            <p:nvPr/>
          </p:nvPicPr>
          <p:blipFill>
            <a:blip r:embed="rId2"/>
            <a:stretch/>
          </p:blipFill>
          <p:spPr>
            <a:xfrm>
              <a:off x="5558040" y="124452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719440" y="1357200"/>
              <a:ext cx="2662200" cy="66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1768" dur="indefinite" restart="never" nodeType="tmRoot">
          <p:childTnLst>
            <p:seq>
              <p:cTn id="1769" dur="indefinite" nodeType="mainSeq">
                <p:childTnLst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424160" y="3220920"/>
            <a:ext cx="12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整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994120" y="2381400"/>
            <a:ext cx="171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单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94120" y="4157640"/>
            <a:ext cx="15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多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347920" y="2664000"/>
            <a:ext cx="646200" cy="1753920"/>
          </a:xfrm>
          <a:custGeom>
            <a:avLst/>
            <a:gdLst>
              <a:gd name="textAreaLeft" fmla="*/ 412920 w 646200"/>
              <a:gd name="textAreaRight" fmla="*/ 646560 w 646200"/>
              <a:gd name="textAreaTop" fmla="*/ 45720 h 1753920"/>
              <a:gd name="textAreaBottom" fmla="*/ 1708200 h 175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11680" y="244152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11680" y="42181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y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3344760" y="995400"/>
            <a:ext cx="2770200" cy="947880"/>
            <a:chOff x="3344760" y="995400"/>
            <a:chExt cx="2770200" cy="947880"/>
          </a:xfrm>
        </p:grpSpPr>
        <p:sp>
          <p:nvSpPr>
            <p:cNvPr id="468" name=""/>
            <p:cNvSpPr txBox="1"/>
            <p:nvPr/>
          </p:nvSpPr>
          <p:spPr>
            <a:xfrm>
              <a:off x="3344760" y="121932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469" name="" descr=""/>
            <p:cNvPicPr/>
            <p:nvPr/>
          </p:nvPicPr>
          <p:blipFill>
            <a:blip r:embed="rId2"/>
            <a:stretch/>
          </p:blipFill>
          <p:spPr>
            <a:xfrm>
              <a:off x="5208480" y="995400"/>
              <a:ext cx="906480" cy="947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  <p:sndAc>
      <p:stSnd>
        <p:snd r:embed="rId3" name="chimes.wav"/>
      </p:stSnd>
    </p:sndAc>
  </p:transition>
  <p:timing>
    <p:tnLst>
      <p:par>
        <p:cTn id="1780" dur="indefinite" restart="never" nodeType="tmRoot">
          <p:childTnLst>
            <p:seq>
              <p:cTn id="1781" dur="indefinite" nodeType="mainSeq">
                <p:childTnLst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526680" y="3659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整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962720" y="2684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单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962720" y="4648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多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327480" y="2257560"/>
            <a:ext cx="48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系数：单项式中的数字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次数：所有字母的指数的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133800" y="4221000"/>
            <a:ext cx="56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项：多项式中的每个单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次数：多项式里次数最高项的次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281240" y="2901960"/>
            <a:ext cx="466560" cy="2236680"/>
          </a:xfrm>
          <a:custGeom>
            <a:avLst/>
            <a:gdLst>
              <a:gd name="textAreaLeft" fmla="*/ 298080 w 466560"/>
              <a:gd name="textAreaRight" fmla="*/ 466920 w 466560"/>
              <a:gd name="textAreaTop" fmla="*/ 58320 h 2236680"/>
              <a:gd name="textAreaBottom" fmla="*/ 2178360 h 223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60560" y="4397400"/>
            <a:ext cx="330480" cy="1111320"/>
          </a:xfrm>
          <a:custGeom>
            <a:avLst/>
            <a:gdLst>
              <a:gd name="textAreaLeft" fmla="*/ 211320 w 330480"/>
              <a:gd name="textAreaRight" fmla="*/ 330840 w 330480"/>
              <a:gd name="textAreaTop" fmla="*/ 28800 h 1111320"/>
              <a:gd name="textAreaBottom" fmla="*/ 1082520 h 111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022560" y="2363760"/>
            <a:ext cx="336600" cy="1166760"/>
          </a:xfrm>
          <a:custGeom>
            <a:avLst/>
            <a:gdLst>
              <a:gd name="textAreaLeft" fmla="*/ 215280 w 336600"/>
              <a:gd name="textAreaRight" fmla="*/ 336960 w 336600"/>
              <a:gd name="textAreaTop" fmla="*/ 30240 h 1166760"/>
              <a:gd name="textAreaBottom" fmla="*/ 113652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190680" y="139680"/>
            <a:ext cx="2849400" cy="1709640"/>
            <a:chOff x="3190680" y="139680"/>
            <a:chExt cx="2849400" cy="1709640"/>
          </a:xfrm>
        </p:grpSpPr>
        <p:sp>
          <p:nvSpPr>
            <p:cNvPr id="479" name="filecab3"/>
            <p:cNvSpPr/>
            <p:nvPr/>
          </p:nvSpPr>
          <p:spPr>
            <a:xfrm rot="10800000">
              <a:off x="3190680" y="101088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课堂小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0" name="" descr=""/>
            <p:cNvPicPr/>
            <p:nvPr/>
          </p:nvPicPr>
          <p:blipFill>
            <a:blip r:embed="rId2"/>
            <a:stretch/>
          </p:blipFill>
          <p:spPr>
            <a:xfrm>
              <a:off x="3808440" y="13968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d"/>
  </p:transition>
  <p:timing>
    <p:tnLst>
      <p:par>
        <p:cTn id="1822" dur="indefinite" restart="never" nodeType="tmRoot">
          <p:childTnLst>
            <p:seq>
              <p:cTn id="1823" dur="indefinite" nodeType="mainSeq">
                <p:childTnLst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581040" y="1878120"/>
            <a:ext cx="802656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单项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系数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数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,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单项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项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z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单项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_____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______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项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项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常数项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项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次项的系数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3x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m-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单项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897880" y="197964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006200" y="260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62320" y="260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326280" y="312408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256160" y="31240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92520" y="3728880"/>
            <a:ext cx="7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791520" y="3706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29760" y="3706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356960" y="430524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153160" y="482436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37280" y="4824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84920" y="5418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871360" y="114480"/>
            <a:ext cx="2849400" cy="1709640"/>
            <a:chOff x="2871360" y="114480"/>
            <a:chExt cx="2849400" cy="1709640"/>
          </a:xfrm>
        </p:grpSpPr>
        <p:sp>
          <p:nvSpPr>
            <p:cNvPr id="495" name="filecab3"/>
            <p:cNvSpPr/>
            <p:nvPr/>
          </p:nvSpPr>
          <p:spPr>
            <a:xfrm rot="10800000">
              <a:off x="2871360" y="98568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随堂练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6" name="" descr=""/>
            <p:cNvPicPr/>
            <p:nvPr/>
          </p:nvPicPr>
          <p:blipFill>
            <a:blip r:embed="rId2"/>
            <a:stretch/>
          </p:blipFill>
          <p:spPr>
            <a:xfrm>
              <a:off x="3489120" y="11448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l"/>
  </p:transition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2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9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6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0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7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4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5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5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2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117440" y="1228680"/>
            <a:ext cx="63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下列说法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确的是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1241280" y="2085840"/>
            <a:ext cx="6864480" cy="32403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6107760" y="1228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3"/>
          <a:stretch/>
        </p:blipFill>
        <p:spPr>
          <a:xfrm>
            <a:off x="4476600" y="3263760"/>
            <a:ext cx="190800" cy="3304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982" dur="indefinite" restart="never" nodeType="tmRoot">
          <p:childTnLst>
            <p:seq>
              <p:cTn id="1983" dur="indefinite" nodeType="mainSeq">
                <p:childTnLst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6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719280" y="824040"/>
            <a:ext cx="798984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如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xy</a:t>
            </a:r>
            <a:r>
              <a:rPr b="1" i="1" lang="zh-CN" sz="32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关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单项式，且系数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次数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别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405080" y="2647800"/>
            <a:ext cx="552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解：由题意可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　　　－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２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得：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          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答：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为－２，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为２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5695920" y="2647800"/>
            <a:ext cx="2473200" cy="2870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999" dur="indefinite" restart="never" nodeType="tmRoot">
          <p:childTnLst>
            <p:seq>
              <p:cTn id="2000" dur="indefinite" nodeType="mainSeq">
                <p:childTnLst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5" dur="500" fill="hold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755640" y="2414520"/>
            <a:ext cx="7921800" cy="3051000"/>
            <a:chOff x="755640" y="2414520"/>
            <a:chExt cx="7921800" cy="3051000"/>
          </a:xfrm>
        </p:grpSpPr>
        <p:sp>
          <p:nvSpPr>
            <p:cNvPr id="505" name=""/>
            <p:cNvSpPr/>
            <p:nvPr/>
          </p:nvSpPr>
          <p:spPr>
            <a:xfrm>
              <a:off x="755640" y="2414520"/>
              <a:ext cx="792180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．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；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        ；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  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；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；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5)13.5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．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；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；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           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              ；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6" name="" descr=""/>
            <p:cNvPicPr/>
            <p:nvPr/>
          </p:nvPicPr>
          <p:blipFill>
            <a:blip r:embed="rId2"/>
            <a:stretch/>
          </p:blipFill>
          <p:spPr>
            <a:xfrm>
              <a:off x="6402240" y="3879720"/>
              <a:ext cx="106704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3"/>
            <a:stretch/>
          </p:blipFill>
          <p:spPr>
            <a:xfrm>
              <a:off x="4092480" y="2414520"/>
              <a:ext cx="6606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4"/>
            <a:stretch/>
          </p:blipFill>
          <p:spPr>
            <a:xfrm>
              <a:off x="2208240" y="4627440"/>
              <a:ext cx="1028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5"/>
            <a:stretch/>
          </p:blipFill>
          <p:spPr>
            <a:xfrm>
              <a:off x="4262400" y="4844880"/>
              <a:ext cx="128268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" descr=""/>
            <p:cNvPicPr/>
            <p:nvPr/>
          </p:nvPicPr>
          <p:blipFill>
            <a:blip r:embed="rId6"/>
            <a:stretch/>
          </p:blipFill>
          <p:spPr>
            <a:xfrm>
              <a:off x="6691320" y="4889520"/>
              <a:ext cx="111744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1" name=""/>
          <p:cNvGrpSpPr/>
          <p:nvPr/>
        </p:nvGrpSpPr>
        <p:grpSpPr>
          <a:xfrm>
            <a:off x="2836440" y="15840"/>
            <a:ext cx="2849400" cy="1709640"/>
            <a:chOff x="2836440" y="15840"/>
            <a:chExt cx="2849400" cy="1709640"/>
          </a:xfrm>
        </p:grpSpPr>
        <p:sp>
          <p:nvSpPr>
            <p:cNvPr id="512" name="filecab3"/>
            <p:cNvSpPr/>
            <p:nvPr/>
          </p:nvSpPr>
          <p:spPr>
            <a:xfrm rot="10800000">
              <a:off x="2836440" y="88704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习题答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7"/>
            <a:stretch/>
          </p:blipFill>
          <p:spPr>
            <a:xfrm>
              <a:off x="3454200" y="1584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2047" dur="indefinite" restart="never" nodeType="tmRoot">
          <p:childTnLst>
            <p:seq>
              <p:cTn id="2048" dur="indefinite" nodeType="mainSeq">
                <p:childTnLst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035000" y="8524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68120" y="1658880"/>
          <a:ext cx="8810640" cy="3800520"/>
        </p:xfrm>
        <a:graphic>
          <a:graphicData uri="http://schemas.openxmlformats.org/drawingml/2006/table">
            <a:tbl>
              <a:tblPr/>
              <a:tblGrid>
                <a:gridCol w="1509840"/>
                <a:gridCol w="1425600"/>
                <a:gridCol w="1469880"/>
                <a:gridCol w="1165320"/>
                <a:gridCol w="1441440"/>
                <a:gridCol w="1798560"/>
              </a:tblGrid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整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系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"/>
          <p:cNvSpPr/>
          <p:nvPr/>
        </p:nvSpPr>
        <p:spPr>
          <a:xfrm>
            <a:off x="1773360" y="194616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916280" y="280980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04920" y="3817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345840" y="189720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725640" y="2809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725640" y="3746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738600" y="5278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4905360" y="2666880"/>
            <a:ext cx="266760" cy="83844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4911480" y="3746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208560" y="3746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261120" y="4681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866000" y="3746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866000" y="4692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771520" y="18018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x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4753080" y="1673280"/>
            <a:ext cx="838080" cy="88884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7308720" y="1946160"/>
            <a:ext cx="1594080" cy="3812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 flipV="1">
            <a:off x="7180200" y="2608200"/>
            <a:ext cx="1722600" cy="89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775480" y="2608200"/>
            <a:ext cx="1368360" cy="89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4538520" y="4503240"/>
            <a:ext cx="123696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103560" y="4503240"/>
            <a:ext cx="143496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1677960" y="4503240"/>
            <a:ext cx="142560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60" dur="indefinite" restart="never" nodeType="tmRoot">
          <p:childTnLst>
            <p:seq>
              <p:cTn id="2061" dur="indefinite" nodeType="mainSeq">
                <p:childTnLst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500"/>
                            </p:stCondLst>
                            <p:childTnLst>
                              <p:par>
                                <p:cTn id="20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5" fill="hold">
                            <p:stCondLst>
                              <p:cond delay="500"/>
                            </p:stCondLst>
                            <p:childTnLst>
                              <p:par>
                                <p:cTn id="212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"/>
          <p:cNvGrpSpPr/>
          <p:nvPr/>
        </p:nvGrpSpPr>
        <p:grpSpPr>
          <a:xfrm>
            <a:off x="976320" y="912960"/>
            <a:ext cx="8048520" cy="5276880"/>
            <a:chOff x="976320" y="912960"/>
            <a:chExt cx="8048520" cy="5276880"/>
          </a:xfrm>
        </p:grpSpPr>
        <p:sp>
          <p:nvSpPr>
            <p:cNvPr id="538" name=""/>
            <p:cNvSpPr/>
            <p:nvPr/>
          </p:nvSpPr>
          <p:spPr>
            <a:xfrm>
              <a:off x="976320" y="920880"/>
              <a:ext cx="8048520" cy="50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．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．三队共植树　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＋     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＝      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7(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棵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67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棵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57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棵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．                                                   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" descr=""/>
            <p:cNvPicPr/>
            <p:nvPr/>
          </p:nvPicPr>
          <p:blipFill>
            <a:blip r:embed="rId2"/>
            <a:stretch/>
          </p:blipFill>
          <p:spPr>
            <a:xfrm>
              <a:off x="5354640" y="912960"/>
              <a:ext cx="71136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3"/>
            <a:stretch/>
          </p:blipFill>
          <p:spPr>
            <a:xfrm>
              <a:off x="5845320" y="1752840"/>
              <a:ext cx="27936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4"/>
            <a:stretch/>
          </p:blipFill>
          <p:spPr>
            <a:xfrm>
              <a:off x="7189920" y="1766880"/>
              <a:ext cx="4824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" descr=""/>
            <p:cNvPicPr/>
            <p:nvPr/>
          </p:nvPicPr>
          <p:blipFill>
            <a:blip r:embed="rId5"/>
            <a:stretch/>
          </p:blipFill>
          <p:spPr>
            <a:xfrm>
              <a:off x="1527120" y="5264280"/>
              <a:ext cx="4538880" cy="925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rd"/>
  </p:transition>
  <p:timing>
    <p:tnLst>
      <p:par>
        <p:cTn id="2194" dur="indefinite" restart="never" nodeType="tmRoot">
          <p:childTnLst>
            <p:seq>
              <p:cTn id="2195" dur="indefinite" nodeType="mainSeq">
                <p:childTnLst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155600" y="3919680"/>
            <a:ext cx="7656480" cy="22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…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155600" y="822240"/>
            <a:ext cx="7656480" cy="2755800"/>
            <a:chOff x="1155600" y="822240"/>
            <a:chExt cx="7656480" cy="2755800"/>
          </a:xfrm>
        </p:grpSpPr>
        <p:sp>
          <p:nvSpPr>
            <p:cNvPr id="545" name=""/>
            <p:cNvSpPr/>
            <p:nvPr/>
          </p:nvSpPr>
          <p:spPr>
            <a:xfrm>
              <a:off x="1155600" y="822240"/>
              <a:ext cx="7656480" cy="27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22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22a) ×0.8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22a) ×0.85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n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n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6" name="" descr=""/>
            <p:cNvPicPr/>
            <p:nvPr/>
          </p:nvPicPr>
          <p:blipFill>
            <a:blip r:embed="rId2"/>
            <a:stretch/>
          </p:blipFill>
          <p:spPr>
            <a:xfrm>
              <a:off x="3611520" y="2739960"/>
              <a:ext cx="1219320" cy="825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201" dur="indefinite" restart="never" nodeType="tmRoot">
          <p:childTnLst>
            <p:seq>
              <p:cTn id="2202" dur="indefinite" nodeType="mainSeq">
                <p:childTnLst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26920" y="2214720"/>
            <a:ext cx="7766280" cy="22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知识与能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会用含有字母的式子表示数量的关系，理解字母表示数的意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理解并掌握单项式、多项式的有关概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能用单项式和多项式表示具体问题中的数量关系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276360" y="184320"/>
            <a:ext cx="2849400" cy="1709640"/>
            <a:chOff x="3276360" y="184320"/>
            <a:chExt cx="2849400" cy="1709640"/>
          </a:xfrm>
        </p:grpSpPr>
        <p:sp>
          <p:nvSpPr>
            <p:cNvPr id="89" name="filecab3"/>
            <p:cNvSpPr/>
            <p:nvPr/>
          </p:nvSpPr>
          <p:spPr>
            <a:xfrm rot="10800000">
              <a:off x="3276360" y="105552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3894120" y="18432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666200" y="696960"/>
            <a:ext cx="1231560" cy="15177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79320" y="1881360"/>
            <a:ext cx="77374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过程与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经历字母表示数量关系的过程中，发展符号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观察、类比、归纳得出单项式和多项式概念的数字活动，积累数学活动经验，感觉数学思考过程的条理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44520" y="15840"/>
            <a:ext cx="2849400" cy="1709640"/>
            <a:chOff x="3044520" y="15840"/>
            <a:chExt cx="2849400" cy="1709640"/>
          </a:xfrm>
        </p:grpSpPr>
        <p:sp>
          <p:nvSpPr>
            <p:cNvPr id="94" name="filecab3"/>
            <p:cNvSpPr/>
            <p:nvPr/>
          </p:nvSpPr>
          <p:spPr>
            <a:xfrm rot="10800000">
              <a:off x="3044520" y="88704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3662280" y="1584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30320" y="2181240"/>
            <a:ext cx="773568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情感态度与价值观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交流、研讨活动，培养主动与他人合作的意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用含字母的式子描述现实世界中的数量关系，认识到它是解决实际问题的重要数学工具之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276360" y="111240"/>
            <a:ext cx="2849400" cy="1709640"/>
            <a:chOff x="3276360" y="111240"/>
            <a:chExt cx="2849400" cy="1709640"/>
          </a:xfrm>
        </p:grpSpPr>
        <p:sp>
          <p:nvSpPr>
            <p:cNvPr id="98" name="filecab3"/>
            <p:cNvSpPr/>
            <p:nvPr/>
          </p:nvSpPr>
          <p:spPr>
            <a:xfrm rot="10800000">
              <a:off x="3276360" y="98244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3894120" y="11124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85960" y="1971720"/>
            <a:ext cx="7315200" cy="37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重点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单项式的概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多项式的有关概念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难点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对单项式的系数、次数概念的理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对多项式的项数、次数概念的理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878200" y="0"/>
            <a:ext cx="3551040" cy="1692000"/>
            <a:chOff x="2878200" y="0"/>
            <a:chExt cx="3551040" cy="1692000"/>
          </a:xfrm>
        </p:grpSpPr>
        <p:sp>
          <p:nvSpPr>
            <p:cNvPr id="102" name="filecab3"/>
            <p:cNvSpPr/>
            <p:nvPr/>
          </p:nvSpPr>
          <p:spPr>
            <a:xfrm rot="10800000">
              <a:off x="2878200" y="853200"/>
              <a:ext cx="3551040" cy="83844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重难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3866760" y="0"/>
              <a:ext cx="161892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lus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31640" y="1784520"/>
            <a:ext cx="8066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．边长为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的正方形的周长是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_______,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面积是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．一辆汽车的速度是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v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千米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小时，行驶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小时所走过的路程为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_______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千米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．半径为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的圆的周长为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，面积为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________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．设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表示一个数，则它的相反数是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12160" y="17715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73600" y="3141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v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3735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π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21640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58840" y="863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填空，并观察式子的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4440" y="2187720"/>
            <a:ext cx="6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91400" y="426888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07:53:31Z</dcterms:created>
  <dc:creator/>
  <dc:description/>
  <cp:keywords/>
  <dc:language>en-US</dc:language>
  <cp:lastModifiedBy>微软用户</cp:lastModifiedBy>
  <dcterms:modified xsi:type="dcterms:W3CDTF">2014-06-30T01:06:47Z</dcterms:modified>
  <cp:revision>58</cp:revision>
  <dc:subject/>
  <dc:title>2.1 整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  <property fmtid="{D5CDD505-2E9C-101B-9397-08002B2CF9AE}" pid="3" name="NXTAG2">
    <vt:lpwstr>000800121d0000000000010250600207f7000400038000</vt:lpwstr>
  </property>
</Properties>
</file>